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D5C-057B-4B3F-87FC-A007D19B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3B5-4C52-45E7-A449-B5A235EC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E85-47AD-4A10-9A05-1085C7A7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FCF-7C80-4921-A568-AF4A5C3B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8CC-A23B-4639-A7D6-5501383A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427-A3F0-4202-9BA4-6CD2B154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525-5F50-4D23-BC62-AA85686C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5D0-C793-4083-A3D8-19389B40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1E3-FE87-4259-B37B-F1B2D937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227-8C92-4110-A440-ED9A1859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5D1-1BFD-42F0-9418-6FD2588D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55D-7EA6-4B97-8D27-1739971D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8E93-3B8F-4AB4-8BD6-EEA6B9FCB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45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91120" y="0"/>
            <a:ext cx="49528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ل أطرقُ بابَكَ بعد ضَياع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كُّل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و يصلُحُ أ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قتربَ إليك بذِ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ضيعتُ أنا فرحتي مني بجه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د كنتَ حبيبي وخلِّي أنت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بل أه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تركتُكَ لكني أعودُ فتَ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لا بيدي إلا الوعد ليَسْتُرَ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قلبي بأحشائي ينادي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ُغمر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َشتاقُ لحضنِ الآب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عطفُه يقبلُ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57400" y="456876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جمِّلني فقُبحي قد ذَهَبَ حتى الأحش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سَوادُ الليلِ تسرَّبَ فيَّ انتشرَ الد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شتاقُ لخالقٍ من عدمٍ يضعُ الأشي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ُغَيِّر قلبي ويُلبسني حللا بيض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HANI SAFI</cp:lastModifiedBy>
  <dcterms:modified xsi:type="dcterms:W3CDTF">2003-03-14T12:16:47Z</dcterms:modified>
  <cp:revision>8</cp:revision>
  <dc:subject/>
  <dc:title>PowerPoint Presentation</dc:title>
</cp:coreProperties>
</file>